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0AC-3ED6-4A47-8FEE-3FC6F327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275-A574-4182-B2E7-728FA0A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CB6EC-B6D1-4A25-B0F4-7D9F2F49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CAAEF-B657-43B3-B442-9D672392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02037-2FAF-48E3-A1B6-BAECA543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C88AB-AE06-432D-BA1E-41DBC634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959A6-0514-40B8-AD8A-331CC39B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47012-35D3-4E1C-B864-34C2125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0E46A-5C92-4110-B4A5-8781647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279B1-D7B2-4D71-846C-47EE7B8A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302E5-7408-462D-AB65-9069C27F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80EBE-EF4E-476D-A6E3-38D3E9F1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284-ABF9-4C6B-A95C-0AAAE36B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59140-B2C9-48B3-9C81-653C7FBD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8FF4D-BAE1-4480-BC47-E15F3D45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05507-1F64-4C51-8F4B-AD9F925B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CC2F8-1599-4635-8FB4-025E6910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67AA3-91BA-4DD4-962E-6FC20F4A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E379D-FB9B-4C08-976C-0E41E90D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83466-5BEA-4861-AF49-2A4EF1AA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18BAB-2450-406D-8C4B-669581AE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5202D-7255-47FC-AF8B-C2D9B3DA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C8E03-795E-490B-A4F8-D4EEE704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97C-FC61-40D9-9316-60627B21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DF523-4982-4649-B02F-EA19E572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3FEEE-4165-4D02-8607-2C3F1728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E5F52-B011-475F-A786-B86AF467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7A611-D0A8-49D8-93CD-DF43E79E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53722-455F-4290-A901-6C77ED3D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FAFBC-020D-4BC6-A365-6404D74A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48BDA-D551-4803-89E3-29144A03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20B58-4DBA-4B50-A0E3-157B4F8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4F34B-416D-4A27-9BA3-5A1ACF3B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02828-D259-4D1D-B0EB-B615D869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FC04-EFF7-47F7-B3C7-DFDFA3F0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B37B8-B72A-423C-BF29-FBB97D32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02695-0C17-4143-BBC3-59013ADD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19A6F-430A-4607-88A4-C1553B5A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3185F-52FA-4E96-943A-4F5A7294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077C4-B33E-4EF5-8FF3-FDDC7AD2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9B290-EDE3-4340-8C01-D2195D3F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67EA7-1303-412A-B252-1232F584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AE152-8D0E-4BA4-A850-C00D0209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7C912-8B29-45A7-9BEB-5E6F1ABC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D8DEB-E255-431C-95BF-9D39133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829A-10C2-4977-9E90-2A5D8248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377AC-96C9-4235-92A6-BB13D4BB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3F659-B6F6-449B-8AA0-521D5A87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908CB-87F6-4450-BE4C-415AAFCC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9C42D-AD0D-47ED-A549-1C7BF0AD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D2BBC-97CB-47EB-B3BF-30D85962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95DB4-EB4A-405E-8185-E3F504C9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7C5F2-DF2A-47B7-9C0E-7BB638CD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41B6C-02A3-46CE-951A-98EC106C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C0B46-3090-4A22-8ACB-700CD64D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F5E41-78C1-4BB0-98E8-C574F6A2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DB81-B82A-47B7-AB86-8D3CB1FE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A0E7D-1C0B-4C31-918B-678D076C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15AE4-38DB-4416-B0CE-A6D40A3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E1E0E-E810-4F56-A2FA-EE078EDC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5C658-0696-49E6-8B7D-4F635335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E9AE6-657F-403E-BF92-80E5ABF8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81E79-E2FC-4774-98B3-4C229B15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40B9B-2144-485C-B100-11CF97AF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395DE-C203-4BE7-84C9-A816E686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0AF14-E838-47DC-B068-ED6778A2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B0940-495C-4412-A1EE-2D6BCCE7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A943-13C3-4A56-B4C2-06872347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EA70A-0DB6-4B5C-95A6-2AF71BCE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A6628-9DB9-4252-8D1D-1C836DA3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67B2F-31D3-4186-9157-E66E4325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AA581-1018-49BC-8893-1CD6E7A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4C965-27B6-4038-B2DD-C297B22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D2CA7-3293-4B47-AEF0-B085C27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4B54D-67CA-41F2-9E3F-63D786C9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55E52-2069-463A-AA64-08511A34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5A572-1AD6-4A35-9C6C-DFFE54BE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FB874-6CD5-4A24-91F6-6437E351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2900-E896-4F58-BCFF-1FEE4DE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87DED-9AC4-4E62-B81D-8F7C6B83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81418-ADC6-4723-B153-E178DFE6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7E1FF-CB01-4651-BC98-DCD20B77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3860C-92FD-47C4-9453-D33A9A5A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6F333-40E9-4425-8179-AE80BC91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F943C-F3B5-4D9C-A4E5-C4EF3BEB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D0085-CC04-4EC2-89A9-24BBCD9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ACE26-5D5C-4818-B993-199B1B9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D3C6FA-2AF2-46A8-901E-56957649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F4016-BEB3-482A-93D5-D7663B42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6AD3-C6F5-4D65-B379-2A2E9E9E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E0C6F-A464-4914-95AB-1A2E318A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70791-B657-4EED-BD5A-A95BF230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1CB10-A1F9-43E7-A535-E6C03084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EE14B-EE42-4E77-8E55-8D30097A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07DE9-1C63-4A31-AA82-0F28A2DD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B84C2-8A5D-464F-8279-C1595AD3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28C76-1F23-463D-99D9-828A575C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A2A5D-E5ED-402B-ACFB-C3C852FF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E7D20-733C-4D52-97E8-12DEAD2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A2F7C-2A61-4035-9203-1AF0D39C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E17D-3833-436A-92D5-0644E91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67050-CFCB-4596-A706-F5119842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44623-58A3-48C3-8809-62D2B53D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3E307-4B78-4B5C-B2C5-11AFB061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23224-2ECF-442C-A1F8-FB90F6FD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564144-7E74-4B5C-A96D-C616BC18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88834-C24D-46BD-9FD9-4D4ED552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7CFC4-1BAC-4D15-8282-42C33EB4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4B8A8-FCCA-4599-BC75-815EF516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2EBAC-BB10-47BC-9CD3-1F08BC79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BA258-0EF0-4D19-BA04-15E72D31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981-5764-42B5-B86E-EB691354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D97E-7514-4705-A224-7E9D188E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4045EB-D8C9-485F-AF3A-DEA7E1FB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D0C69-3F05-4C34-8B9B-7A125260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C289A-17A5-48CC-A005-6292379F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7D1352-28EF-4F39-AA32-3213D6BB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8F448-75C9-4840-A581-78B9E27C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EDE1E-4C17-4D9C-BFD5-D6295A4D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7BD12-6ED1-465D-88A3-7CD3AAAD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9B024-9DA7-44AF-A359-4B3B4DC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9D1DA-59D8-473E-8A85-58EE5878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AF84B-BAF5-4C9D-9672-46DA03F9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8F09-0E86-41A5-8247-BAA6351A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6D983-D95B-445A-9DC1-185A097C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50CB8-F0EF-4743-81D0-57ED8490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E2969-1097-4BB3-8742-87985A27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4EA6D1-B124-4D2D-B410-C10D691E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0BC9DC-1A3A-4B23-B980-F242F737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532C4-2690-448B-8CFC-8572B09A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6D9F0-F5E3-4098-A8E4-D0B91983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2206B-99F8-4F46-B64D-38CCA792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10163-CD2C-4614-8644-8D12AD22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20D620-BE79-4AD6-B933-3E67254C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6359-6B16-48B7-8147-E89D2CF8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47C0F-C33D-482C-8C22-25D3EEE9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69E8A4-6C08-4A86-B55E-73B560E8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B5A65-1462-4D46-876C-A940DBB1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BEBE77-CFA8-4281-BEE4-113F94F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B3A8C8-4ED5-4368-B2A1-11D1E003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1BD00C-2148-4163-8AA0-AD30EB5A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69B767-5AF2-4757-B89D-EAF9445A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C766B-9B5C-4587-80A4-EA342304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1FC4E-5185-4050-A320-41CE8078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7FF1C9-09E0-45CD-BE77-D4EE1E7F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7025-3F65-4E9B-8BC3-3F1C4866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3ED2E-BCAD-4DF1-9607-7135BCD6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6D0C5-D4C7-4479-A746-7748C372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747950-8A6C-4133-9401-53AB59E8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AF9348-6CCC-452C-9473-9147EBB1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2075E-15A6-4D58-A222-D88985E1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E01956-5E5E-45B4-8964-6BB88C4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CB1818-4A4C-49D6-9C28-9CBADF1C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9291E-4F7C-488F-8979-3D8BDC09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724AD-811B-49F3-99F4-0B63CCC3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FCFD5F-07A4-4F85-A892-98929F0E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2F1B-B665-4949-AC5D-D9D0845C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945B7-0366-4D29-937A-EAB45A48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7A4C0-8F9D-433D-AE23-C9B2CE7B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C1F914-79ED-4C08-8FFB-0A4458FD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81F7A-704F-4A17-9264-E6F5D3AC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19C27F-5C18-4519-8123-0520CCBE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170596-4189-4A41-A452-811B398B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8E5272-6157-499F-A164-9A7B240C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E761E-2729-43E6-B280-CD20EE3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8ADC4E-D017-4793-AD98-7EDF7DCE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E79545-DF06-45B3-8B9E-05B68F48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3DDA-CBFF-4BEA-A806-144FE0BD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6C99B-C14D-4454-9042-73F1DC24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4CAB6-0C6C-4D54-A89D-1562DD5A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1FD588-6D30-4C11-A275-1C79B46D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954C5-91EF-40B4-B8FE-99282005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0292-0892-4A16-9637-199715E2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3248-4958-4F8E-B578-D49F4B4E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1197-EDBB-4736-833C-90440906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AA2-6AD2-44E1-B4FB-585B3665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CE18-C020-4837-9F60-399F628B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1841-5C59-4FF5-B805-1A60E682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0E77-E4D5-4528-BD6B-F3F49ACF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97E8-54B9-4C00-8455-3B2FE85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B417-9FE5-46D7-BB05-67AD4DD5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C033-CD62-4B5E-8F9B-4D4A742E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2A89A-5966-4400-B4D2-B8B720B5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10AC0-E100-4474-924B-F1C5FC88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98AB-8436-47EF-8745-C766271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6EB9-6490-4B7C-8FCD-0ED33BAD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E6D-E5A6-41C9-90B2-7E2751C8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D3FE-4348-436D-BFE9-6ACD5AEC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0AC97-E09F-406A-A6DF-407F9408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D08E8-30BA-46FF-BB65-CB484C2D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240E6-8419-4107-912C-4B42845C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9574-87C2-41FE-B357-45FF80DB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C05F-23DF-4714-BCD6-16000602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69E35-F8E1-40A1-AA69-53E71A2F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53E7-DE32-4F3D-AA49-6391BE05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8D6DE-3A29-4326-8626-3D2283E3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31FE1-A751-43C7-8BD8-1AD84046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9D7-6BD1-473D-BA1C-E1D1EE42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079B-2C36-424F-9DD7-EA4C78FE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C219A-0AD1-4137-94D6-B2A9EF62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BB05A-3E49-4FB5-9252-0F81D0D5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985A2-EABF-42C8-A75C-A6F76E21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61DFC-9639-4023-9C9F-DFD8F753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099A-0AC0-46E1-8B90-74D382FE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4C76-ECC8-488D-8964-2EB1074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4DC77-C4F2-4CC9-AD5D-C813064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13189-272F-4C61-925B-CE1F5FF7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BD88E-B3A4-47E5-B29A-F826B710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EE6-AA08-4868-B636-19FFA4FE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89234-43FE-4096-94F5-671D4A1F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F7945-E699-4FDA-AD9A-1A442769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D133-81F3-4773-A5ED-978047A2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4715F-CB6B-419A-B3BA-DE452FAB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B0191-BB11-4609-8415-8263C6EF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E7609-53E9-4022-AFCF-F101BCC8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198F1-1C4F-442C-ADD5-A4CA4AC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8ECB9-A3BB-44E8-857D-290E6595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CB813-2946-48DC-8853-AB55769D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01B3-DAE3-4713-A3CB-20DC28C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E70-3F0A-46F4-BCE9-00C1F183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5C34B-CB02-44A9-BF8B-419D7833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A46A0-58E3-4417-A1BA-2756828F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81FEA-1523-4A7C-A421-7AFE9F25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23C28-7481-4085-ADB3-12D553F7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D80B7-6274-4181-8A40-467791AF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AEC22-B1A1-42A7-86C2-0375E673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CA04D-DBBF-4874-BE8D-65CC54C0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11123-C16F-4C9D-A710-18DAEE8C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A05E1-604C-4171-AD78-E5A59DC9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66E09-719D-44F3-B226-89FCDCEC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B9F-7B9D-4CF8-928C-512974A6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4C965-164B-4CAB-986A-8B3268B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F24EF-96EE-4DAD-9CD4-B37CE5EE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BFF93-8338-4478-8113-E667AE01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68D42-EA0B-440D-B248-308C8285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2D369-470F-4C48-9360-FB9644A2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12F01-2D30-49FC-99DB-5C39316C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5675C-D64F-413C-927B-802BB8BC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0A865-5248-4DFC-B18D-F85DB49F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CAA7A-9261-4858-B426-00F5759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58B8-8F5A-43CE-96D8-DAB3514D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51C-8BB7-4E2E-A851-7A00241E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2832E-4006-4854-BECD-447477C8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E9661-9848-431B-80B2-12C28EBF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043B9-E171-487D-8664-D220DEC7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85D2D-A430-4291-827B-21D8CF3F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D2C61-F0B8-4CD2-BBA6-9D52D89E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DF348-A22D-4287-B31E-2DAC3B85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C4078-9B9D-458F-ACFA-1EB32D0B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12007-3DE4-4E85-A32A-7569ABD6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6E82C-6928-4E0B-A0F8-BF847212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72F4C-3B59-49F7-8B06-A20F37A4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EE9B-330A-4B6D-8891-F1B199FCA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9AAF-A8B1-489D-9462-8CAD7EBBB5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0CE0-2477-4085-BBAD-4140DA9DA5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C741-E9D6-4A71-B488-09984D89C1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CAF2-DECE-4278-90CA-4CF8EAAF1D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C9BD-499C-4F12-8941-F3D2DDBDA2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40A5-E4CF-4F7F-9E59-C5F5F67BD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ADB5-A623-4776-A916-583E08EFB6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3610-484D-4F36-87B3-2369BFC12A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A8B2-603D-4A49-8D80-48E9D4196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9DAD-7A18-4159-A27E-0372ADA367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0990-DBCE-42C5-AC82-B047E0AAFF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5082-9B8D-495A-AC11-103E48A5D4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AECC-AD9B-46A9-BF45-A017CB4133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92C3-A2FF-4F84-A753-2E1D402BFC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D6F9-B761-4280-BA87-9F2B5498B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C86E-4D3C-41EA-83F8-34796116A2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ED20-5584-43A1-9BD0-69BF12388F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B306-A92A-4663-94A3-63B236054F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DC03-DC1A-4AC1-B09F-8DD15C65B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2A12-6B20-4C04-8CE0-5C4B721F6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465A-4095-4190-AC78-0AE8963F0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54A4-E4B0-4FBE-B783-8609A65127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B680-1D99-430F-B8CD-CB2C7C165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C83A-AAAF-487F-A353-AC46E49A1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9EBB-3CFA-4DBE-B5AF-C6E129D7D8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EB20-8A89-42FA-A623-62A1CE91AD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083A-BB70-459D-81AA-E294F8DAF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F7DA-E22C-48E4-A212-BDD7724566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6522-8AC9-4B55-8A28-D68E3F3C43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EEC2-AA0B-4EDE-B621-E3AE6F13C6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80A5-6387-40E9-84B4-587423B4F2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1B7A-5095-49D4-9111-25077132D2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CE53-C23C-4F8B-9E29-FB1159A8B0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46E8-8410-4C6D-92F1-B9B0AA3D57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1CF5-0D3E-41F5-B119-8B43B5AAF4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5C7B-4F5E-4DF8-8506-3A1D60EA6B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3CD1-7271-4E84-9560-ACA43329ED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3B98-6E03-4347-BFE2-8EDC2E04D2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C893-9FE0-4FC7-9CB1-A4FA255D24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428920" y="2786040"/>
            <a:ext cx="4143240" cy="5716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1643040" y="3714840"/>
            <a:ext cx="56959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285840" y="923760"/>
            <a:ext cx="8572320" cy="5505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285840" y="3244680"/>
            <a:ext cx="5072040" cy="374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285840" y="3786120"/>
            <a:ext cx="5072040" cy="374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285840" y="4340160"/>
            <a:ext cx="5072040" cy="374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285840" y="4911840"/>
            <a:ext cx="5072040" cy="374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285840" y="5483160"/>
            <a:ext cx="7500960" cy="374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285840" y="6054840"/>
            <a:ext cx="878688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857160" y="928800"/>
            <a:ext cx="6867720" cy="1504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428760" y="3000240"/>
            <a:ext cx="8381880" cy="35910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285840" y="10206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4"/>
          <a:stretch/>
        </p:blipFill>
        <p:spPr>
          <a:xfrm>
            <a:off x="285840" y="1641600"/>
            <a:ext cx="878688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14440" y="1085760"/>
            <a:ext cx="8115120" cy="50580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2"/>
          <a:stretch/>
        </p:blipFill>
        <p:spPr>
          <a:xfrm>
            <a:off x="285840" y="22446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3"/>
          <a:stretch/>
        </p:blipFill>
        <p:spPr>
          <a:xfrm>
            <a:off x="285840" y="28256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4"/>
          <a:stretch/>
        </p:blipFill>
        <p:spPr>
          <a:xfrm>
            <a:off x="285840" y="335772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5"/>
          <a:stretch/>
        </p:blipFill>
        <p:spPr>
          <a:xfrm>
            <a:off x="285840" y="39290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6"/>
          <a:stretch/>
        </p:blipFill>
        <p:spPr>
          <a:xfrm>
            <a:off x="285840" y="44830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7"/>
          <a:stretch/>
        </p:blipFill>
        <p:spPr>
          <a:xfrm>
            <a:off x="285840" y="50148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8"/>
          <a:stretch/>
        </p:blipFill>
        <p:spPr>
          <a:xfrm>
            <a:off x="285840" y="562608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276120" y="966960"/>
            <a:ext cx="8591760" cy="5676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285840" y="3346560"/>
            <a:ext cx="8786880" cy="426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285840" y="384660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4"/>
          <a:stretch/>
        </p:blipFill>
        <p:spPr>
          <a:xfrm>
            <a:off x="285840" y="434988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5"/>
          <a:stretch/>
        </p:blipFill>
        <p:spPr>
          <a:xfrm>
            <a:off x="285840" y="477828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6"/>
          <a:stretch/>
        </p:blipFill>
        <p:spPr>
          <a:xfrm>
            <a:off x="285840" y="527832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7"/>
          <a:stretch/>
        </p:blipFill>
        <p:spPr>
          <a:xfrm>
            <a:off x="285840" y="57182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8"/>
          <a:stretch/>
        </p:blipFill>
        <p:spPr>
          <a:xfrm>
            <a:off x="285840" y="6207120"/>
            <a:ext cx="87868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399960" y="1233360"/>
            <a:ext cx="8344080" cy="4838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3"/>
          <a:stretch/>
        </p:blipFill>
        <p:spPr>
          <a:xfrm>
            <a:off x="285840" y="177480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4"/>
          <a:stretch/>
        </p:blipFill>
        <p:spPr>
          <a:xfrm>
            <a:off x="285840" y="22654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5"/>
          <a:stretch/>
        </p:blipFill>
        <p:spPr>
          <a:xfrm>
            <a:off x="285840" y="273384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6"/>
          <a:stretch/>
        </p:blipFill>
        <p:spPr>
          <a:xfrm>
            <a:off x="285840" y="321480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7"/>
          <a:stretch/>
        </p:blipFill>
        <p:spPr>
          <a:xfrm>
            <a:off x="285840" y="370368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8"/>
          <a:stretch/>
        </p:blipFill>
        <p:spPr>
          <a:xfrm>
            <a:off x="285840" y="413532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9"/>
          <a:stretch/>
        </p:blipFill>
        <p:spPr>
          <a:xfrm>
            <a:off x="285840" y="46576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10"/>
          <a:stretch/>
        </p:blipFill>
        <p:spPr>
          <a:xfrm>
            <a:off x="285840" y="51451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11"/>
          <a:stretch/>
        </p:blipFill>
        <p:spPr>
          <a:xfrm>
            <a:off x="285840" y="562608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467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538200" y="1123920"/>
            <a:ext cx="8067600" cy="5162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2"/>
          <a:stretch/>
        </p:blipFill>
        <p:spPr>
          <a:xfrm>
            <a:off x="285840" y="1143000"/>
            <a:ext cx="5572080" cy="374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3"/>
          <a:stretch/>
        </p:blipFill>
        <p:spPr>
          <a:xfrm>
            <a:off x="285840" y="1662120"/>
            <a:ext cx="5572080" cy="7128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4"/>
          <a:stretch/>
        </p:blipFill>
        <p:spPr>
          <a:xfrm>
            <a:off x="285840" y="2500200"/>
            <a:ext cx="5572080" cy="3747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5"/>
          <a:stretch/>
        </p:blipFill>
        <p:spPr>
          <a:xfrm>
            <a:off x="285840" y="2979720"/>
            <a:ext cx="5572080" cy="374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6"/>
          <a:stretch/>
        </p:blipFill>
        <p:spPr>
          <a:xfrm>
            <a:off x="285840" y="3459240"/>
            <a:ext cx="5572080" cy="3744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7"/>
          <a:stretch/>
        </p:blipFill>
        <p:spPr>
          <a:xfrm>
            <a:off x="285840" y="3917880"/>
            <a:ext cx="5572080" cy="3762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8"/>
          <a:stretch/>
        </p:blipFill>
        <p:spPr>
          <a:xfrm>
            <a:off x="285840" y="44038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9"/>
          <a:stretch/>
        </p:blipFill>
        <p:spPr>
          <a:xfrm>
            <a:off x="285840" y="48816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10"/>
          <a:stretch/>
        </p:blipFill>
        <p:spPr>
          <a:xfrm>
            <a:off x="285840" y="534024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11"/>
          <a:stretch/>
        </p:blipFill>
        <p:spPr>
          <a:xfrm>
            <a:off x="285840" y="581976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928800" y="1052640"/>
            <a:ext cx="7324560" cy="20192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2"/>
          <a:stretch/>
        </p:blipFill>
        <p:spPr>
          <a:xfrm>
            <a:off x="285840" y="1111320"/>
            <a:ext cx="8786880" cy="4446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3"/>
          <a:stretch/>
        </p:blipFill>
        <p:spPr>
          <a:xfrm>
            <a:off x="285840" y="157176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4"/>
          <a:stretch/>
        </p:blipFill>
        <p:spPr>
          <a:xfrm>
            <a:off x="285840" y="20908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5"/>
          <a:stretch/>
        </p:blipFill>
        <p:spPr>
          <a:xfrm>
            <a:off x="285840" y="2560680"/>
            <a:ext cx="87868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34:19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